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368B-89AD-486D-BF01-E9DB7106D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8854-1610-4613-825B-36507828F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0CD1-19CA-498D-9238-90010E5EE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E3D4-2F8B-4903-89FE-60EA036EE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0E45-E658-417A-96F5-DFEE340E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B940-852B-4E95-9DD2-E703D44D5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A808-975B-4955-BFCA-39A0B4086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92C6-D8F3-4162-9C17-9A29D9995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09480" y="495000"/>
            <a:ext cx="7772400" cy="353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0BA3-2F80-4CEE-8030-8326AEF2D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F783-7C63-4764-BD88-32705847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8262-0D6F-49FD-A040-B729BE35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D235-B9DF-41F4-AA6A-AD65EA55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DE3E6-229D-44A2-808F-A4E440993A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457200" y="357120"/>
            <a:ext cx="8231040" cy="1459080"/>
            <a:chOff x="457200" y="357120"/>
            <a:chExt cx="8231040" cy="1459080"/>
          </a:xfrm>
        </p:grpSpPr>
        <p:sp>
          <p:nvSpPr>
            <p:cNvPr id="4" name=""/>
            <p:cNvSpPr/>
            <p:nvPr/>
          </p:nvSpPr>
          <p:spPr>
            <a:xfrm>
              <a:off x="457200" y="366840"/>
              <a:ext cx="136440" cy="1449360"/>
            </a:xfrm>
            <a:custGeom>
              <a:avLst/>
              <a:gdLst/>
              <a:ahLst/>
              <a:rect l="l" t="t" r="r" b="b"/>
              <a:pathLst>
                <a:path w="86" h="913">
                  <a:moveTo>
                    <a:pt x="0" y="0"/>
                  </a:moveTo>
                  <a:lnTo>
                    <a:pt x="85" y="96"/>
                  </a:lnTo>
                  <a:lnTo>
                    <a:pt x="85" y="816"/>
                  </a:lnTo>
                  <a:lnTo>
                    <a:pt x="0" y="912"/>
                  </a:lnTo>
                  <a:lnTo>
                    <a:pt x="0" y="0"/>
                  </a:lnTo>
                </a:path>
              </a:pathLst>
            </a:cu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550360" y="357120"/>
              <a:ext cx="137880" cy="1444680"/>
            </a:xfrm>
            <a:custGeom>
              <a:avLst/>
              <a:gdLst/>
              <a:ahLst/>
              <a:rect l="l" t="t" r="r" b="b"/>
              <a:pathLst>
                <a:path w="87" h="910">
                  <a:moveTo>
                    <a:pt x="86" y="0"/>
                  </a:moveTo>
                  <a:lnTo>
                    <a:pt x="0" y="93"/>
                  </a:lnTo>
                  <a:lnTo>
                    <a:pt x="0" y="813"/>
                  </a:lnTo>
                  <a:lnTo>
                    <a:pt x="86" y="909"/>
                  </a:lnTo>
                  <a:lnTo>
                    <a:pt x="86" y="0"/>
                  </a:lnTo>
                </a:path>
              </a:pathLst>
            </a:cu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57200" y="361800"/>
              <a:ext cx="8231040" cy="163800"/>
            </a:xfrm>
            <a:custGeom>
              <a:avLst/>
              <a:gdLst/>
              <a:ahLst/>
              <a:rect l="l" t="t" r="r" b="b"/>
              <a:pathLst>
                <a:path w="5185" h="103">
                  <a:moveTo>
                    <a:pt x="0" y="0"/>
                  </a:moveTo>
                  <a:lnTo>
                    <a:pt x="5184" y="3"/>
                  </a:lnTo>
                  <a:lnTo>
                    <a:pt x="5093" y="102"/>
                  </a:lnTo>
                  <a:lnTo>
                    <a:pt x="88" y="102"/>
                  </a:lnTo>
                  <a:lnTo>
                    <a:pt x="0" y="0"/>
                  </a:lnTo>
                </a:path>
              </a:pathLst>
            </a:cu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457200" y="1343160"/>
            <a:ext cx="125280" cy="5197320"/>
          </a:xfrm>
          <a:custGeom>
            <a:avLst/>
            <a:gdLst/>
            <a:ahLst/>
            <a:rect l="l" t="t" r="r" b="b"/>
            <a:pathLst>
              <a:path w="79" h="3274">
                <a:moveTo>
                  <a:pt x="0" y="0"/>
                </a:moveTo>
                <a:lnTo>
                  <a:pt x="78" y="107"/>
                </a:lnTo>
                <a:lnTo>
                  <a:pt x="78" y="3166"/>
                </a:lnTo>
                <a:lnTo>
                  <a:pt x="0" y="3273"/>
                </a:lnTo>
                <a:lnTo>
                  <a:pt x="0" y="0"/>
                </a:lnTo>
              </a:path>
            </a:pathLst>
          </a:custGeom>
          <a:solidFill>
            <a:srgbClr val="063d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550360" y="1247760"/>
            <a:ext cx="133200" cy="5278320"/>
          </a:xfrm>
          <a:custGeom>
            <a:avLst/>
            <a:gdLst/>
            <a:ahLst/>
            <a:rect l="l" t="t" r="r" b="b"/>
            <a:pathLst>
              <a:path w="84" h="3325">
                <a:moveTo>
                  <a:pt x="83" y="0"/>
                </a:moveTo>
                <a:lnTo>
                  <a:pt x="3" y="109"/>
                </a:lnTo>
                <a:lnTo>
                  <a:pt x="0" y="3233"/>
                </a:lnTo>
                <a:lnTo>
                  <a:pt x="83" y="3324"/>
                </a:lnTo>
                <a:lnTo>
                  <a:pt x="83" y="0"/>
                </a:lnTo>
              </a:path>
            </a:pathLst>
          </a:custGeom>
          <a:solidFill>
            <a:srgbClr val="063de8"/>
          </a:solidFill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57200" y="6386400"/>
            <a:ext cx="8231040" cy="139680"/>
          </a:xfrm>
          <a:custGeom>
            <a:avLst/>
            <a:gdLst/>
            <a:ahLst/>
            <a:rect l="l" t="t" r="r" b="b"/>
            <a:pathLst>
              <a:path w="5185" h="88">
                <a:moveTo>
                  <a:pt x="0" y="87"/>
                </a:moveTo>
                <a:lnTo>
                  <a:pt x="5184" y="87"/>
                </a:lnTo>
                <a:lnTo>
                  <a:pt x="5095" y="0"/>
                </a:lnTo>
                <a:lnTo>
                  <a:pt x="89" y="0"/>
                </a:lnTo>
                <a:lnTo>
                  <a:pt x="0" y="87"/>
                </a:lnTo>
              </a:path>
            </a:pathLst>
          </a:cu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592200" y="523800"/>
            <a:ext cx="7958160" cy="585792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371600" y="2286000"/>
            <a:ext cx="62485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ernard MT Condensed"/>
              </a:rPr>
              <a:t>Chapter 13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ernard MT Condensed"/>
              </a:rPr>
              <a:t>Acids and Bas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H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pH= -log[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2200" indent="-3222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Used because [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 is usually very smal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2200" indent="-3222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s pH decreases, [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 increases exponentially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2200" indent="-3222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ig figs only the digits after the decimal place of a pH are significan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2200" indent="-3222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[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 = 1.0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8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 pH= 8.00   2 sig fig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2200" indent="-3222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pOH= -log[O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2200" indent="-3222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pKa = -log K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Relationship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K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W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= [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[O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;  pH= -log[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Book Antiqu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[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Book Antiqu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 =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Book Antiqua"/>
              </a:rPr>
              <a:t>-pH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-log K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W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= -log[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+ -log[O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pK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W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= pH + pOH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K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W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= 1.0 x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14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14.00 = pH + pOH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[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,[O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,pH and pOH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Given any one of these we can find the other three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467480" y="2971800"/>
            <a:ext cx="1295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Book Antiqua"/>
              </a:rPr>
              <a:t>Bas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2971800"/>
            <a:ext cx="1752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Book Antiqua"/>
              </a:rPr>
              <a:t>Acid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2971800"/>
            <a:ext cx="1676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Book Antiqua"/>
              </a:rPr>
              <a:t>Neut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-2438640" y="380880"/>
            <a:ext cx="14022360" cy="1981800"/>
            <a:chOff x="-2438640" y="380880"/>
            <a:chExt cx="14022360" cy="1981800"/>
          </a:xfrm>
        </p:grpSpPr>
        <p:grpSp>
          <p:nvGrpSpPr>
            <p:cNvPr id="95" name=""/>
            <p:cNvGrpSpPr/>
            <p:nvPr/>
          </p:nvGrpSpPr>
          <p:grpSpPr>
            <a:xfrm>
              <a:off x="800280" y="1295280"/>
              <a:ext cx="7886520" cy="1067400"/>
              <a:chOff x="800280" y="1295280"/>
              <a:chExt cx="7886520" cy="1067400"/>
            </a:xfrm>
          </p:grpSpPr>
          <p:sp>
            <p:nvSpPr>
              <p:cNvPr id="96" name=""/>
              <p:cNvSpPr/>
              <p:nvPr/>
            </p:nvSpPr>
            <p:spPr>
              <a:xfrm>
                <a:off x="800280" y="1295280"/>
                <a:ext cx="76176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afd00"/>
                    </a:solidFill>
                    <a:latin typeface="Book Antiqua"/>
                  </a:rPr>
                  <a:t>10</a:t>
                </a:r>
                <a:r>
                  <a:rPr b="0" lang="en-US" sz="3200" spc="-1" strike="noStrike" baseline="30000">
                    <a:solidFill>
                      <a:srgbClr val="fafd00"/>
                    </a:solidFill>
                    <a:latin typeface="Book Antiqua"/>
                  </a:rPr>
                  <a:t>0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562040" y="1295280"/>
                <a:ext cx="91440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afd00"/>
                    </a:solidFill>
                    <a:latin typeface="Book Antiqua"/>
                  </a:rPr>
                  <a:t>10</a:t>
                </a:r>
                <a:r>
                  <a:rPr b="0" lang="en-US" sz="3200" spc="-1" strike="noStrike" baseline="30000">
                    <a:solidFill>
                      <a:srgbClr val="fafd00"/>
                    </a:solidFill>
                    <a:latin typeface="Book Antiqua"/>
                  </a:rPr>
                  <a:t>-1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552760" y="1295280"/>
                <a:ext cx="91440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afd00"/>
                    </a:solidFill>
                    <a:latin typeface="Book Antiqua"/>
                  </a:rPr>
                  <a:t>10</a:t>
                </a:r>
                <a:r>
                  <a:rPr b="0" lang="en-US" sz="3200" spc="-1" strike="noStrike" baseline="30000">
                    <a:solidFill>
                      <a:srgbClr val="fafd00"/>
                    </a:solidFill>
                    <a:latin typeface="Book Antiqua"/>
                  </a:rPr>
                  <a:t>-3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390840" y="1295280"/>
                <a:ext cx="83844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afd00"/>
                    </a:solidFill>
                    <a:latin typeface="Book Antiqua"/>
                  </a:rPr>
                  <a:t>10</a:t>
                </a:r>
                <a:r>
                  <a:rPr b="0" lang="en-US" sz="3200" spc="-1" strike="noStrike" baseline="30000">
                    <a:solidFill>
                      <a:srgbClr val="fafd00"/>
                    </a:solidFill>
                    <a:latin typeface="Book Antiqua"/>
                  </a:rPr>
                  <a:t>-5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267080" y="1295280"/>
                <a:ext cx="83844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afd00"/>
                    </a:solidFill>
                    <a:latin typeface="Book Antiqua"/>
                  </a:rPr>
                  <a:t>10</a:t>
                </a:r>
                <a:r>
                  <a:rPr b="0" lang="en-US" sz="3200" spc="-1" strike="noStrike" baseline="30000">
                    <a:solidFill>
                      <a:srgbClr val="fafd00"/>
                    </a:solidFill>
                    <a:latin typeface="Book Antiqua"/>
                  </a:rPr>
                  <a:t>-7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067360" y="1295280"/>
                <a:ext cx="83808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afd00"/>
                    </a:solidFill>
                    <a:latin typeface="Book Antiqua"/>
                  </a:rPr>
                  <a:t>10</a:t>
                </a:r>
                <a:r>
                  <a:rPr b="0" lang="en-US" sz="3200" spc="-1" strike="noStrike" baseline="30000">
                    <a:solidFill>
                      <a:srgbClr val="fafd00"/>
                    </a:solidFill>
                    <a:latin typeface="Book Antiqua"/>
                  </a:rPr>
                  <a:t>-9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867280" y="1295280"/>
                <a:ext cx="99072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afd00"/>
                    </a:solidFill>
                    <a:latin typeface="Book Antiqua"/>
                  </a:rPr>
                  <a:t>10</a:t>
                </a:r>
                <a:r>
                  <a:rPr b="0" lang="en-US" sz="3200" spc="-1" strike="noStrike" baseline="30000">
                    <a:solidFill>
                      <a:srgbClr val="fafd00"/>
                    </a:solidFill>
                    <a:latin typeface="Book Antiqua"/>
                  </a:rPr>
                  <a:t>-11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819840" y="1295280"/>
                <a:ext cx="99072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afd00"/>
                    </a:solidFill>
                    <a:latin typeface="Book Antiqua"/>
                  </a:rPr>
                  <a:t>10</a:t>
                </a:r>
                <a:r>
                  <a:rPr b="0" lang="en-US" sz="3200" spc="-1" strike="noStrike" baseline="30000">
                    <a:solidFill>
                      <a:srgbClr val="fafd00"/>
                    </a:solidFill>
                    <a:latin typeface="Book Antiqua"/>
                  </a:rPr>
                  <a:t>-13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96080" y="1295280"/>
                <a:ext cx="99072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afd00"/>
                    </a:solidFill>
                    <a:latin typeface="Book Antiqua"/>
                  </a:rPr>
                  <a:t>10</a:t>
                </a:r>
                <a:r>
                  <a:rPr b="0" lang="en-US" sz="3200" spc="-1" strike="noStrike" baseline="30000">
                    <a:solidFill>
                      <a:srgbClr val="fafd00"/>
                    </a:solidFill>
                    <a:latin typeface="Book Antiqua"/>
                  </a:rPr>
                  <a:t>-14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4038480" y="380880"/>
              <a:ext cx="12956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Book Antiqua"/>
                </a:rPr>
                <a:t>[H</a:t>
              </a:r>
              <a:r>
                <a:rPr b="0" lang="en-US" sz="3200" spc="-1" strike="noStrike" baseline="30000">
                  <a:solidFill>
                    <a:srgbClr val="ffffff"/>
                  </a:solidFill>
                  <a:latin typeface="Book Antiqua"/>
                </a:rPr>
                <a:t>+</a:t>
              </a:r>
              <a:r>
                <a:rPr b="0" lang="en-US" sz="3200" spc="-1" strike="noStrike">
                  <a:solidFill>
                    <a:srgbClr val="ffffff"/>
                  </a:solidFill>
                  <a:latin typeface="Book Antiqua"/>
                </a:rPr>
                <a:t>]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-2438640" y="459000"/>
              <a:ext cx="14022360" cy="1218600"/>
              <a:chOff x="-2438640" y="459000"/>
              <a:chExt cx="14022360" cy="1218600"/>
            </a:xfrm>
          </p:grpSpPr>
          <p:grpSp>
            <p:nvGrpSpPr>
              <p:cNvPr id="107" name=""/>
              <p:cNvGrpSpPr/>
              <p:nvPr/>
            </p:nvGrpSpPr>
            <p:grpSpPr>
              <a:xfrm>
                <a:off x="-2438640" y="459000"/>
                <a:ext cx="7010280" cy="1218600"/>
                <a:chOff x="-2438640" y="459000"/>
                <a:chExt cx="7010280" cy="121860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-2438640" y="459000"/>
                  <a:ext cx="7010280" cy="761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59" y="9855"/>
                      </a:moveTo>
                      <a:arcTo wR="10800" hR="10800" stAng="-301261" swAng="570126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59" y="9855"/>
                      </a:moveTo>
                      <a:arcTo wR="10800" hR="10800" stAng="-301261" swAng="5701261"/>
                    </a:path>
                  </a:pathLst>
                </a:custGeom>
                <a:noFill/>
                <a:ln cap="rnd"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534960" y="1220760"/>
                  <a:ext cx="10666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8976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89769"/>
                    </a:path>
                  </a:pathLst>
                </a:custGeom>
                <a:noFill/>
                <a:ln cap="rnd"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4573440" y="459000"/>
                <a:ext cx="7010280" cy="1218600"/>
                <a:chOff x="4573440" y="459000"/>
                <a:chExt cx="7010280" cy="121860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4573440" y="459000"/>
                  <a:ext cx="7010280" cy="761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70112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701124"/>
                    </a:path>
                  </a:pathLst>
                </a:custGeom>
                <a:noFill/>
                <a:ln cap="rnd"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7545600" y="1220760"/>
                  <a:ext cx="106632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68" y="0"/>
                      </a:moveTo>
                      <a:arcTo wR="10800" hR="10800" stAng="-5410231" swAng="54102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68" y="0"/>
                      </a:moveTo>
                      <a:arcTo wR="10800" hR="10800" stAng="-5410231" swAng="5410231"/>
                    </a:path>
                  </a:pathLst>
                </a:custGeom>
                <a:noFill/>
                <a:ln cap="rnd"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3" name=""/>
          <p:cNvGrpSpPr/>
          <p:nvPr/>
        </p:nvGrpSpPr>
        <p:grpSpPr>
          <a:xfrm>
            <a:off x="-2362320" y="1600200"/>
            <a:ext cx="14022360" cy="1981800"/>
            <a:chOff x="-2362320" y="1600200"/>
            <a:chExt cx="14022360" cy="1981800"/>
          </a:xfrm>
        </p:grpSpPr>
        <p:sp>
          <p:nvSpPr>
            <p:cNvPr id="114" name=""/>
            <p:cNvSpPr/>
            <p:nvPr/>
          </p:nvSpPr>
          <p:spPr>
            <a:xfrm>
              <a:off x="990720" y="2514600"/>
              <a:ext cx="3808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Book Antiqua"/>
                </a:rPr>
                <a:t>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828800" y="2514600"/>
              <a:ext cx="3808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Book Antiqua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19520" y="2514600"/>
              <a:ext cx="3808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Book Antiqua"/>
                </a:rPr>
                <a:t>3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619440" y="2514600"/>
              <a:ext cx="3812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Book Antiqua"/>
                </a:rPr>
                <a:t>5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495680" y="2514600"/>
              <a:ext cx="3812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Book Antiqua"/>
                </a:rPr>
                <a:t>7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95960" y="2514600"/>
              <a:ext cx="3808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Book Antiqua"/>
                </a:rPr>
                <a:t>9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58080" y="2514600"/>
              <a:ext cx="6094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Book Antiqua"/>
                </a:rPr>
                <a:t>11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010280" y="2514600"/>
              <a:ext cx="6098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Book Antiqua"/>
                </a:rPr>
                <a:t>13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886880" y="2514600"/>
              <a:ext cx="6094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Book Antiqua"/>
                </a:rPr>
                <a:t>14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-2362320" y="1751400"/>
              <a:ext cx="14022360" cy="1218600"/>
              <a:chOff x="-2362320" y="1751400"/>
              <a:chExt cx="14022360" cy="121860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-2362320" y="1751400"/>
                <a:ext cx="7010280" cy="1218600"/>
                <a:chOff x="-2362320" y="1751400"/>
                <a:chExt cx="7010280" cy="121860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-2362320" y="1751400"/>
                  <a:ext cx="7010280" cy="761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59" y="9855"/>
                      </a:moveTo>
                      <a:arcTo wR="10800" hR="10800" stAng="-301261" swAng="570126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59" y="9855"/>
                      </a:moveTo>
                      <a:arcTo wR="10800" hR="10800" stAng="-301261" swAng="5701261"/>
                    </a:path>
                  </a:pathLst>
                </a:custGeom>
                <a:noFill/>
                <a:ln cap="rnd"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11280" y="2513160"/>
                  <a:ext cx="106596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8976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89769"/>
                    </a:path>
                  </a:pathLst>
                </a:custGeom>
                <a:noFill/>
                <a:ln cap="rnd"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4649760" y="1751400"/>
                <a:ext cx="7010280" cy="1218600"/>
                <a:chOff x="4649760" y="1751400"/>
                <a:chExt cx="7010280" cy="12186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4649760" y="1751400"/>
                  <a:ext cx="7010280" cy="761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70112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701124"/>
                    </a:path>
                  </a:pathLst>
                </a:custGeom>
                <a:noFill/>
                <a:ln cap="rnd"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7621560" y="2513160"/>
                  <a:ext cx="106632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68" y="0"/>
                      </a:moveTo>
                      <a:arcTo wR="10800" hR="10800" stAng="-5410231" swAng="54102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68" y="0"/>
                      </a:moveTo>
                      <a:arcTo wR="10800" hR="10800" stAng="-5410231" swAng="5410231"/>
                    </a:path>
                  </a:pathLst>
                </a:custGeom>
                <a:noFill/>
                <a:ln cap="rnd"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0" name=""/>
            <p:cNvSpPr/>
            <p:nvPr/>
          </p:nvSpPr>
          <p:spPr>
            <a:xfrm>
              <a:off x="4267080" y="1600200"/>
              <a:ext cx="12956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Book Antiqua"/>
                </a:rPr>
                <a:t>pH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-2513880" y="4952880"/>
            <a:ext cx="14020920" cy="1418400"/>
            <a:chOff x="-2513880" y="4952880"/>
            <a:chExt cx="14020920" cy="1418400"/>
          </a:xfrm>
        </p:grpSpPr>
        <p:grpSp>
          <p:nvGrpSpPr>
            <p:cNvPr id="132" name=""/>
            <p:cNvGrpSpPr/>
            <p:nvPr/>
          </p:nvGrpSpPr>
          <p:grpSpPr>
            <a:xfrm>
              <a:off x="609480" y="4952880"/>
              <a:ext cx="7886520" cy="1067400"/>
              <a:chOff x="609480" y="4952880"/>
              <a:chExt cx="7886520" cy="1067400"/>
            </a:xfrm>
          </p:grpSpPr>
          <p:sp>
            <p:nvSpPr>
              <p:cNvPr id="133" name=""/>
              <p:cNvSpPr/>
              <p:nvPr/>
            </p:nvSpPr>
            <p:spPr>
              <a:xfrm flipH="1">
                <a:off x="3886200" y="4952880"/>
                <a:ext cx="129528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279f"/>
                    </a:solidFill>
                    <a:latin typeface="Book Antiqua"/>
                  </a:rPr>
                  <a:t>Basic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>
                <a:off x="7733520" y="4952880"/>
                <a:ext cx="76212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Book Antiqua"/>
                  </a:rPr>
                  <a:t>10</a:t>
                </a:r>
                <a:r>
                  <a:rPr b="0" lang="en-US" sz="3200" spc="-1" strike="noStrike" baseline="30000">
                    <a:solidFill>
                      <a:srgbClr val="ffffff"/>
                    </a:solidFill>
                    <a:latin typeface="Book Antiqua"/>
                  </a:rPr>
                  <a:t>0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>
                <a:off x="6781680" y="4952880"/>
                <a:ext cx="91440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Book Antiqua"/>
                  </a:rPr>
                  <a:t>10</a:t>
                </a:r>
                <a:r>
                  <a:rPr b="0" lang="en-US" sz="3200" spc="-1" strike="noStrike" baseline="30000">
                    <a:solidFill>
                      <a:srgbClr val="ffffff"/>
                    </a:solidFill>
                    <a:latin typeface="Book Antiqua"/>
                  </a:rPr>
                  <a:t>-1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5829480" y="4952880"/>
                <a:ext cx="91440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Book Antiqua"/>
                  </a:rPr>
                  <a:t>10</a:t>
                </a:r>
                <a:r>
                  <a:rPr b="0" lang="en-US" sz="3200" spc="-1" strike="noStrike" baseline="30000">
                    <a:solidFill>
                      <a:srgbClr val="ffffff"/>
                    </a:solidFill>
                    <a:latin typeface="Book Antiqua"/>
                  </a:rPr>
                  <a:t>-3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4990320" y="4952880"/>
                <a:ext cx="83844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Book Antiqua"/>
                  </a:rPr>
                  <a:t>10</a:t>
                </a:r>
                <a:r>
                  <a:rPr b="0" lang="en-US" sz="3200" spc="-1" strike="noStrike" baseline="30000">
                    <a:solidFill>
                      <a:srgbClr val="ffffff"/>
                    </a:solidFill>
                    <a:latin typeface="Book Antiqua"/>
                  </a:rPr>
                  <a:t>-5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>
                <a:off x="4191120" y="4952880"/>
                <a:ext cx="83808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Book Antiqua"/>
                  </a:rPr>
                  <a:t>10</a:t>
                </a:r>
                <a:r>
                  <a:rPr b="0" lang="en-US" sz="3200" spc="-1" strike="noStrike" baseline="30000">
                    <a:solidFill>
                      <a:srgbClr val="ffffff"/>
                    </a:solidFill>
                    <a:latin typeface="Book Antiqua"/>
                  </a:rPr>
                  <a:t>-7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3314880" y="4952880"/>
                <a:ext cx="83808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Book Antiqua"/>
                  </a:rPr>
                  <a:t>10</a:t>
                </a:r>
                <a:r>
                  <a:rPr b="0" lang="en-US" sz="3200" spc="-1" strike="noStrike" baseline="30000">
                    <a:solidFill>
                      <a:srgbClr val="ffffff"/>
                    </a:solidFill>
                    <a:latin typeface="Book Antiqua"/>
                  </a:rPr>
                  <a:t>-9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>
                <a:off x="2438280" y="4952880"/>
                <a:ext cx="99072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Book Antiqua"/>
                  </a:rPr>
                  <a:t>10</a:t>
                </a:r>
                <a:r>
                  <a:rPr b="0" lang="en-US" sz="3200" spc="-1" strike="noStrike" baseline="30000">
                    <a:solidFill>
                      <a:srgbClr val="ffffff"/>
                    </a:solidFill>
                    <a:latin typeface="Book Antiqua"/>
                  </a:rPr>
                  <a:t>-11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1447200" y="4952880"/>
                <a:ext cx="99036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Book Antiqua"/>
                  </a:rPr>
                  <a:t>10</a:t>
                </a:r>
                <a:r>
                  <a:rPr b="0" lang="en-US" sz="3200" spc="-1" strike="noStrike" baseline="30000">
                    <a:solidFill>
                      <a:srgbClr val="ffffff"/>
                    </a:solidFill>
                    <a:latin typeface="Book Antiqua"/>
                  </a:rPr>
                  <a:t>-13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609480" y="4952880"/>
                <a:ext cx="99072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Book Antiqua"/>
                  </a:rPr>
                  <a:t>10</a:t>
                </a:r>
                <a:r>
                  <a:rPr b="0" lang="en-US" sz="3200" spc="-1" strike="noStrike" baseline="30000">
                    <a:solidFill>
                      <a:srgbClr val="ffffff"/>
                    </a:solidFill>
                    <a:latin typeface="Book Antiqua"/>
                  </a:rPr>
                  <a:t>-14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4114800" y="5791320"/>
              <a:ext cx="12952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Book Antiqua"/>
                </a:rPr>
                <a:t>[OH</a:t>
              </a:r>
              <a:r>
                <a:rPr b="0" lang="en-US" sz="3200" spc="-1" strike="noStrike" baseline="30000">
                  <a:solidFill>
                    <a:srgbClr val="ffffff"/>
                  </a:solidFill>
                  <a:latin typeface="Book Antiqua"/>
                </a:rPr>
                <a:t>-</a:t>
              </a:r>
              <a:r>
                <a:rPr b="0" lang="en-US" sz="3200" spc="-1" strike="noStrike">
                  <a:solidFill>
                    <a:srgbClr val="ffffff"/>
                  </a:solidFill>
                  <a:latin typeface="Book Antiqua"/>
                </a:rPr>
                <a:t>]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-2513880" y="4994280"/>
              <a:ext cx="14020920" cy="1220400"/>
              <a:chOff x="-2513880" y="4994280"/>
              <a:chExt cx="14020920" cy="1220400"/>
            </a:xfrm>
          </p:grpSpPr>
          <p:grpSp>
            <p:nvGrpSpPr>
              <p:cNvPr id="145" name=""/>
              <p:cNvGrpSpPr/>
              <p:nvPr/>
            </p:nvGrpSpPr>
            <p:grpSpPr>
              <a:xfrm>
                <a:off x="-2513880" y="4994280"/>
                <a:ext cx="7009200" cy="1220400"/>
                <a:chOff x="-2513880" y="4994280"/>
                <a:chExt cx="7009200" cy="122040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-2513880" y="5452920"/>
                  <a:ext cx="7009200" cy="761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68698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686983"/>
                    </a:path>
                  </a:pathLst>
                </a:custGeom>
                <a:noFill/>
                <a:ln cap="rnd"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58640" y="4994280"/>
                  <a:ext cx="10666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4497480" y="4994280"/>
                <a:ext cx="7009560" cy="1220400"/>
                <a:chOff x="4497480" y="4994280"/>
                <a:chExt cx="7009560" cy="122040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4497480" y="5452920"/>
                  <a:ext cx="7009560" cy="761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8" y="11700"/>
                      </a:moveTo>
                      <a:arcTo wR="10800" hR="10800" stAng="10513147" swAng="568529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8" y="11700"/>
                      </a:moveTo>
                      <a:arcTo wR="10800" hR="10800" stAng="10513147" swAng="5685296"/>
                    </a:path>
                  </a:pathLst>
                </a:custGeom>
                <a:noFill/>
                <a:ln cap="rnd"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467480" y="4994280"/>
                  <a:ext cx="10666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51" name=""/>
          <p:cNvGrpSpPr/>
          <p:nvPr/>
        </p:nvGrpSpPr>
        <p:grpSpPr>
          <a:xfrm>
            <a:off x="-2438280" y="3505320"/>
            <a:ext cx="14022000" cy="1494360"/>
            <a:chOff x="-2438280" y="3505320"/>
            <a:chExt cx="14022000" cy="1494360"/>
          </a:xfrm>
        </p:grpSpPr>
        <p:grpSp>
          <p:nvGrpSpPr>
            <p:cNvPr id="152" name=""/>
            <p:cNvGrpSpPr/>
            <p:nvPr/>
          </p:nvGrpSpPr>
          <p:grpSpPr>
            <a:xfrm>
              <a:off x="799920" y="3505320"/>
              <a:ext cx="7505640" cy="1067400"/>
              <a:chOff x="799920" y="3505320"/>
              <a:chExt cx="7505640" cy="1067400"/>
            </a:xfrm>
          </p:grpSpPr>
          <p:sp>
            <p:nvSpPr>
              <p:cNvPr id="153" name=""/>
              <p:cNvSpPr/>
              <p:nvPr/>
            </p:nvSpPr>
            <p:spPr>
              <a:xfrm flipH="1">
                <a:off x="7923960" y="3505320"/>
                <a:ext cx="38124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Book Antiqua"/>
                  </a:rPr>
                  <a:t>0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7047720" y="3505320"/>
                <a:ext cx="38124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Book Antiqua"/>
                  </a:rPr>
                  <a:t>1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6095160" y="3505320"/>
                <a:ext cx="38124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Book Antiqua"/>
                  </a:rPr>
                  <a:t>3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>
                <a:off x="5218920" y="3505320"/>
                <a:ext cx="38124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Book Antiqua"/>
                  </a:rPr>
                  <a:t>5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4419720" y="3505320"/>
                <a:ext cx="38088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Book Antiqua"/>
                  </a:rPr>
                  <a:t>7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3543480" y="3505320"/>
                <a:ext cx="38088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Book Antiqua"/>
                  </a:rPr>
                  <a:t>9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2628360" y="3505320"/>
                <a:ext cx="60948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Book Antiqua"/>
                  </a:rPr>
                  <a:t>11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>
                <a:off x="1637640" y="3505320"/>
                <a:ext cx="60948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Book Antiqua"/>
                  </a:rPr>
                  <a:t>13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>
                <a:off x="799560" y="3505320"/>
                <a:ext cx="60948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Book Antiqua"/>
                  </a:rPr>
                  <a:t>14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-2438280" y="3622680"/>
              <a:ext cx="14022000" cy="1220400"/>
              <a:chOff x="-2438280" y="3622680"/>
              <a:chExt cx="14022000" cy="1220400"/>
            </a:xfrm>
          </p:grpSpPr>
          <p:grpSp>
            <p:nvGrpSpPr>
              <p:cNvPr id="163" name=""/>
              <p:cNvGrpSpPr/>
              <p:nvPr/>
            </p:nvGrpSpPr>
            <p:grpSpPr>
              <a:xfrm>
                <a:off x="-2438280" y="3622680"/>
                <a:ext cx="7009920" cy="1220400"/>
                <a:chOff x="-2438280" y="3622680"/>
                <a:chExt cx="7009920" cy="122040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-2438280" y="4081320"/>
                  <a:ext cx="7009920" cy="761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68698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686983"/>
                    </a:path>
                  </a:pathLst>
                </a:custGeom>
                <a:noFill/>
                <a:ln cap="rnd"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534960" y="3622680"/>
                  <a:ext cx="10666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4573440" y="3622680"/>
                <a:ext cx="7010280" cy="1220400"/>
                <a:chOff x="4573440" y="3622680"/>
                <a:chExt cx="7010280" cy="122040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4573440" y="4081320"/>
                  <a:ext cx="7010280" cy="761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8" y="11700"/>
                      </a:moveTo>
                      <a:arcTo wR="10800" hR="10800" stAng="10513147" swAng="568529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8" y="11700"/>
                      </a:moveTo>
                      <a:arcTo wR="10800" hR="10800" stAng="10513147" swAng="5685296"/>
                    </a:path>
                  </a:pathLst>
                </a:custGeom>
                <a:noFill/>
                <a:ln cap="rnd"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7544160" y="3622680"/>
                  <a:ext cx="106596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9" name=""/>
            <p:cNvSpPr/>
            <p:nvPr/>
          </p:nvSpPr>
          <p:spPr>
            <a:xfrm>
              <a:off x="4191120" y="4419720"/>
              <a:ext cx="12952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Book Antiqua"/>
                </a:rPr>
                <a:t>pOH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alculating pH of Soluti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lways write down the major ions in solution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Remember these are equilibria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Remember the chemistry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Don’t try to memorize there is no one way to do thi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trong Acid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Br, HI, HCl, HN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,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, HCl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ompletely dissociated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[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 = [HA]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[O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 is going to be small because of equilibrium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14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= [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[O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f [HA]&lt;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7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water contributes 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eak Acid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Ka will be small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t will be an equilibrium problem from the start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Determine whether most of the 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will come from the acid or the water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ompare Ka or Kw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Rest is just like equilibrium problem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alculate the pH of 2.0 M acetic acid HC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 with a Ka 1.8 x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5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alculate pOH, [O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, [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 mixture of Weak Acid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 process is the same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Determine the major specie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 stronger will predominate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Bigger Ka if concentrations are comparabl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alculate the pH of a mixture 1.0 M HF (Ka = 7.2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4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) and 1.0 M HOC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(Ka = 1.6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10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2" name=""/>
          <p:cNvSpPr/>
          <p:nvPr/>
        </p:nvSpPr>
        <p:spPr>
          <a:xfrm>
            <a:off x="7315200" y="5715000"/>
            <a:ext cx="121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Book Antiqua"/>
              </a:rPr>
              <a:t>P705#6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ercent dissocia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=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ook Antiqua"/>
              </a:rPr>
              <a:t>    amount dissociated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x 100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initial concentration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r a weak acid percent dissociation increases as acid becomes more dilute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s [HA]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decreases [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 decreases but % dissociation increase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Le Chatelier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rrhenius Defini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cids produce hydrogen ions in aqueous solution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Bases produce hydroxide ions when dissolved in water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Limited to aqueous solution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nly one kind of base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ammonia could not be an Arrhenius base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alculate the % dissociation of  1.00 M </a:t>
            </a:r>
            <a:r>
              <a:rPr b="0" lang="en-US" sz="3100" spc="-1" strike="noStrike">
                <a:solidFill>
                  <a:srgbClr val="ffffff"/>
                </a:solidFill>
                <a:latin typeface="Book Antiqua"/>
              </a:rPr>
              <a:t>and .00100 M Acetic acid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(Ka = 1.8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5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Bas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 O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s a strong base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ydroxides of the alkali metals are strong bases because they dissociate completely when dissolved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 hydroxides of alkaline earths Ca(OH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etc. are strong dibasic bases,  but they don’t dissolve well in water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Used as antacids because [O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 can’t build up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102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Bases without OH</a:t>
            </a:r>
            <a:r>
              <a:rPr b="0" lang="en-US" sz="5400" spc="-1" strike="noStrike" baseline="30000">
                <a:solidFill>
                  <a:srgbClr val="fafd00"/>
                </a:solidFill>
                <a:latin typeface="Times New Roman"/>
              </a:rPr>
              <a:t>-</a:t>
            </a:r>
            <a:r>
              <a:rPr b="0" lang="en-US" sz="5400" spc="-1" strike="noStrike" baseline="-25000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Bases are proton acceptor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9480" indent="-33948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NH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+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  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+ O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t is the lone pair on nitrogen that accepts the proton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Many weak bases  contain  Nitrogen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9480" indent="-339480"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B</a:t>
            </a:r>
            <a:r>
              <a:rPr b="0" lang="en-US" sz="3100" spc="-1" strike="noStrike">
                <a:solidFill>
                  <a:srgbClr val="ffffff"/>
                </a:solidFill>
                <a:latin typeface="Book Antiqua"/>
              </a:rPr>
              <a:t>(aq)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+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(l)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   B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+</a:t>
            </a:r>
            <a:r>
              <a:rPr b="0" lang="en-US" sz="3100" spc="-1" strike="noStrike">
                <a:solidFill>
                  <a:srgbClr val="ffffff"/>
                </a:solidFill>
                <a:latin typeface="Book Antiqua"/>
              </a:rPr>
              <a:t>(aq)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+ O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 </a:t>
            </a:r>
            <a:r>
              <a:rPr b="0" lang="en-US" sz="3100" spc="-1" strike="noStrike">
                <a:solidFill>
                  <a:srgbClr val="ffffff"/>
                </a:solidFill>
                <a:latin typeface="Book Antiqua"/>
              </a:rPr>
              <a:t>(aq)</a:t>
            </a:r>
            <a:endParaRPr b="0" lang="en-US" sz="3100" spc="-1" strike="noStrike">
              <a:solidFill>
                <a:srgbClr val="ffffff"/>
              </a:solidFill>
              <a:latin typeface="Book Antiqua"/>
            </a:endParaRPr>
          </a:p>
          <a:p>
            <a:pPr marL="339480" indent="-339480">
              <a:lnSpc>
                <a:spcPct val="11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ook Antiqua"/>
              </a:rPr>
              <a:t>K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b</a:t>
            </a:r>
            <a:r>
              <a:rPr b="0" lang="en-US" sz="3100" spc="-1" strike="noStrike">
                <a:solidFill>
                  <a:srgbClr val="ffffff"/>
                </a:solidFill>
                <a:latin typeface="Book Antiqua"/>
              </a:rPr>
              <a:t> = [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B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+</a:t>
            </a:r>
            <a:r>
              <a:rPr b="0" lang="en-US" sz="3100" spc="-1" strike="noStrike">
                <a:solidFill>
                  <a:srgbClr val="ffffff"/>
                </a:solidFill>
                <a:latin typeface="Book Antiqua"/>
              </a:rPr>
              <a:t>][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 </a:t>
            </a:r>
            <a:r>
              <a:rPr b="0" lang="en-US" sz="3100" spc="-1" strike="noStrike">
                <a:solidFill>
                  <a:srgbClr val="ffffff"/>
                </a:solidFill>
                <a:latin typeface="Book Antiqua"/>
              </a:rPr>
              <a:t>]</a:t>
            </a:r>
            <a:r>
              <a:rPr b="0" lang="en-US" sz="31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Book Antiqua"/>
              </a:rPr>
              <a:t>  [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B</a:t>
            </a:r>
            <a:r>
              <a:rPr b="0" lang="en-US" sz="3100" spc="-1" strike="noStrike">
                <a:solidFill>
                  <a:srgbClr val="ffffff"/>
                </a:solidFill>
                <a:latin typeface="Book Antiqua"/>
              </a:rPr>
              <a:t>] </a:t>
            </a:r>
            <a:endParaRPr b="0" lang="en-US" sz="31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3429000" y="1920960"/>
            <a:ext cx="839880" cy="442800"/>
            <a:chOff x="3429000" y="1920960"/>
            <a:chExt cx="839880" cy="442800"/>
          </a:xfrm>
        </p:grpSpPr>
        <p:sp>
          <p:nvSpPr>
            <p:cNvPr id="192" name=""/>
            <p:cNvSpPr/>
            <p:nvPr/>
          </p:nvSpPr>
          <p:spPr>
            <a:xfrm>
              <a:off x="3429000" y="1920960"/>
              <a:ext cx="839880" cy="154080"/>
            </a:xfrm>
            <a:custGeom>
              <a:avLst/>
              <a:gdLst/>
              <a:ahLst/>
              <a:rect l="l" t="t" r="r" b="b"/>
              <a:pathLst>
                <a:path w="529" h="97">
                  <a:moveTo>
                    <a:pt x="0" y="96"/>
                  </a:moveTo>
                  <a:lnTo>
                    <a:pt x="528" y="96"/>
                  </a:lnTo>
                  <a:lnTo>
                    <a:pt x="384" y="0"/>
                  </a:lnTo>
                </a:path>
              </a:pathLst>
            </a:custGeom>
            <a:noFill/>
            <a:ln cap="rnd" w="50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29000" y="2209680"/>
              <a:ext cx="839880" cy="154080"/>
            </a:xfrm>
            <a:custGeom>
              <a:avLst/>
              <a:gdLst/>
              <a:ahLst/>
              <a:rect l="l" t="t" r="r" b="b"/>
              <a:pathLst>
                <a:path w="529" h="97">
                  <a:moveTo>
                    <a:pt x="528" y="0"/>
                  </a:moveTo>
                  <a:lnTo>
                    <a:pt x="0" y="0"/>
                  </a:lnTo>
                  <a:lnTo>
                    <a:pt x="144" y="96"/>
                  </a:lnTo>
                </a:path>
              </a:pathLst>
            </a:custGeom>
            <a:noFill/>
            <a:ln cap="rnd" w="50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3809880" y="4130640"/>
            <a:ext cx="839880" cy="442800"/>
            <a:chOff x="3809880" y="4130640"/>
            <a:chExt cx="839880" cy="442800"/>
          </a:xfrm>
        </p:grpSpPr>
        <p:sp>
          <p:nvSpPr>
            <p:cNvPr id="195" name=""/>
            <p:cNvSpPr/>
            <p:nvPr/>
          </p:nvSpPr>
          <p:spPr>
            <a:xfrm>
              <a:off x="3809880" y="4130640"/>
              <a:ext cx="839880" cy="154080"/>
            </a:xfrm>
            <a:custGeom>
              <a:avLst/>
              <a:gdLst/>
              <a:ahLst/>
              <a:rect l="l" t="t" r="r" b="b"/>
              <a:pathLst>
                <a:path w="529" h="97">
                  <a:moveTo>
                    <a:pt x="0" y="96"/>
                  </a:moveTo>
                  <a:lnTo>
                    <a:pt x="528" y="96"/>
                  </a:lnTo>
                  <a:lnTo>
                    <a:pt x="384" y="0"/>
                  </a:lnTo>
                </a:path>
              </a:pathLst>
            </a:custGeom>
            <a:noFill/>
            <a:ln cap="rnd" w="50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809880" y="4419720"/>
              <a:ext cx="839880" cy="153720"/>
            </a:xfrm>
            <a:custGeom>
              <a:avLst/>
              <a:gdLst/>
              <a:ahLst/>
              <a:rect l="l" t="t" r="r" b="b"/>
              <a:pathLst>
                <a:path w="529" h="97">
                  <a:moveTo>
                    <a:pt x="528" y="0"/>
                  </a:moveTo>
                  <a:lnTo>
                    <a:pt x="0" y="0"/>
                  </a:lnTo>
                  <a:lnTo>
                    <a:pt x="144" y="96"/>
                  </a:lnTo>
                </a:path>
              </a:pathLst>
            </a:custGeom>
            <a:noFill/>
            <a:ln cap="rnd" w="50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1905120" y="5334120"/>
            <a:ext cx="25146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197240" y="4502160"/>
            <a:ext cx="1511280" cy="1282680"/>
          </a:xfrm>
          <a:prstGeom prst="hexagon">
            <a:avLst>
              <a:gd name="adj" fmla="val 29450"/>
              <a:gd name="vf" fmla="val 115470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trength of Bas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410080" y="5029200"/>
            <a:ext cx="533520" cy="30492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34120" y="4800600"/>
            <a:ext cx="685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N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ydroxides are strong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thers are weak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maller </a:t>
            </a:r>
            <a:r>
              <a:rPr b="0" lang="en-US" sz="3100" spc="-1" strike="noStrike">
                <a:solidFill>
                  <a:srgbClr val="ffffff"/>
                </a:solidFill>
                <a:latin typeface="Book Antiqua"/>
              </a:rPr>
              <a:t>K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weaker base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alculate the pH of a solution of 4.0 M pyridine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(Kb = 1.7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9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3" name=""/>
          <p:cNvSpPr/>
          <p:nvPr/>
        </p:nvSpPr>
        <p:spPr>
          <a:xfrm>
            <a:off x="4425840" y="4616280"/>
            <a:ext cx="1054080" cy="10544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alculate the pH of a solution of 0.20 M pyridine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(Kb = 1.7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9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6" name=""/>
          <p:cNvSpPr/>
          <p:nvPr/>
        </p:nvSpPr>
        <p:spPr>
          <a:xfrm>
            <a:off x="7391520" y="579132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Book Antiqua"/>
              </a:rPr>
              <a:t>P706#86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olyprotic acid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lways dissociate stepwise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 first 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comes of much easier than the second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Ka for the first step is much bigger than Ka for the second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Denoted K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, K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, K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olyprotic acid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+ HC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K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= 4.3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7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C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+ C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K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= 4.3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10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Base in first step is acid in second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n calculations we can normally ignore the second dissociation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2514600" y="1311120"/>
            <a:ext cx="839880" cy="443160"/>
            <a:chOff x="2514600" y="1311120"/>
            <a:chExt cx="839880" cy="443160"/>
          </a:xfrm>
        </p:grpSpPr>
        <p:sp>
          <p:nvSpPr>
            <p:cNvPr id="212" name=""/>
            <p:cNvSpPr/>
            <p:nvPr/>
          </p:nvSpPr>
          <p:spPr>
            <a:xfrm>
              <a:off x="2514600" y="1311120"/>
              <a:ext cx="839880" cy="154080"/>
            </a:xfrm>
            <a:custGeom>
              <a:avLst/>
              <a:gdLst/>
              <a:ahLst/>
              <a:rect l="l" t="t" r="r" b="b"/>
              <a:pathLst>
                <a:path w="529" h="97">
                  <a:moveTo>
                    <a:pt x="0" y="96"/>
                  </a:moveTo>
                  <a:lnTo>
                    <a:pt x="528" y="96"/>
                  </a:lnTo>
                  <a:lnTo>
                    <a:pt x="384" y="0"/>
                  </a:lnTo>
                </a:path>
              </a:pathLst>
            </a:custGeom>
            <a:noFill/>
            <a:ln cap="rnd" w="50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514600" y="1600200"/>
              <a:ext cx="839880" cy="154080"/>
            </a:xfrm>
            <a:custGeom>
              <a:avLst/>
              <a:gdLst/>
              <a:ahLst/>
              <a:rect l="l" t="t" r="r" b="b"/>
              <a:pathLst>
                <a:path w="529" h="97">
                  <a:moveTo>
                    <a:pt x="528" y="0"/>
                  </a:moveTo>
                  <a:lnTo>
                    <a:pt x="0" y="0"/>
                  </a:lnTo>
                  <a:lnTo>
                    <a:pt x="144" y="96"/>
                  </a:lnTo>
                </a:path>
              </a:pathLst>
            </a:custGeom>
            <a:noFill/>
            <a:ln cap="rnd" w="50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514600" y="2378160"/>
            <a:ext cx="839880" cy="442800"/>
            <a:chOff x="2514600" y="2378160"/>
            <a:chExt cx="839880" cy="442800"/>
          </a:xfrm>
        </p:grpSpPr>
        <p:sp>
          <p:nvSpPr>
            <p:cNvPr id="215" name=""/>
            <p:cNvSpPr/>
            <p:nvPr/>
          </p:nvSpPr>
          <p:spPr>
            <a:xfrm>
              <a:off x="2514600" y="2378160"/>
              <a:ext cx="839880" cy="154080"/>
            </a:xfrm>
            <a:custGeom>
              <a:avLst/>
              <a:gdLst/>
              <a:ahLst/>
              <a:rect l="l" t="t" r="r" b="b"/>
              <a:pathLst>
                <a:path w="529" h="97">
                  <a:moveTo>
                    <a:pt x="0" y="96"/>
                  </a:moveTo>
                  <a:lnTo>
                    <a:pt x="528" y="96"/>
                  </a:lnTo>
                  <a:lnTo>
                    <a:pt x="384" y="0"/>
                  </a:lnTo>
                </a:path>
              </a:pathLst>
            </a:custGeom>
            <a:noFill/>
            <a:ln cap="rnd" w="50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514600" y="2666880"/>
              <a:ext cx="839880" cy="154080"/>
            </a:xfrm>
            <a:custGeom>
              <a:avLst/>
              <a:gdLst/>
              <a:ahLst/>
              <a:rect l="l" t="t" r="r" b="b"/>
              <a:pathLst>
                <a:path w="529" h="97">
                  <a:moveTo>
                    <a:pt x="528" y="0"/>
                  </a:moveTo>
                  <a:lnTo>
                    <a:pt x="0" y="0"/>
                  </a:lnTo>
                  <a:lnTo>
                    <a:pt x="144" y="96"/>
                  </a:lnTo>
                </a:path>
              </a:pathLst>
            </a:custGeom>
            <a:noFill/>
            <a:ln cap="rnd" w="50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alculate the Concentra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f all the ions in a solution of 0.20 M Arsenic acid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K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= 5.0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Book Antiqua"/>
              </a:rPr>
              <a:t>-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K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= 8.0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Book Antiqua"/>
              </a:rPr>
              <a:t>-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K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= 6.0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Book Antiqua"/>
              </a:rPr>
              <a:t>-1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543800" y="5943600"/>
            <a:ext cx="91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Book Antiqua"/>
              </a:rPr>
              <a:t>P707#96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ulfuric acid is special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n first step it is a strong acid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K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= 1.2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2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alculate the concentrations in a 1.0 M solution of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2" name=""/>
          <p:cNvSpPr/>
          <p:nvPr/>
        </p:nvSpPr>
        <p:spPr>
          <a:xfrm>
            <a:off x="7315200" y="5791320"/>
            <a:ext cx="121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Book Antiqua"/>
              </a:rPr>
              <a:t>P685#14.16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alts as acids an bas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alts are ionic compound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alts of the cation of strong bases and the anion of strong acids are neutral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r example NaCl, KN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re is no equilibrium for strong acids and base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We ignore the reverse reaction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Bronsted-Lowry Definiti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nd acid is an proton (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) donor and a base is a proton acceptor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cids and bases always come in pair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Cl is an acid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When it dissolves in water it gives its proton to water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Cl(g) +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(l) 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+ Cl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Water is a base making hydronium ion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4191120" y="4876920"/>
            <a:ext cx="915840" cy="230040"/>
            <a:chOff x="4191120" y="4876920"/>
            <a:chExt cx="915840" cy="230040"/>
          </a:xfrm>
        </p:grpSpPr>
        <p:sp>
          <p:nvSpPr>
            <p:cNvPr id="55" name=""/>
            <p:cNvSpPr/>
            <p:nvPr/>
          </p:nvSpPr>
          <p:spPr>
            <a:xfrm>
              <a:off x="4191120" y="4876920"/>
              <a:ext cx="915840" cy="77760"/>
            </a:xfrm>
            <a:custGeom>
              <a:avLst/>
              <a:gdLst/>
              <a:ahLst/>
              <a:rect l="l" t="t" r="r" b="b"/>
              <a:pathLst>
                <a:path w="577" h="49">
                  <a:moveTo>
                    <a:pt x="0" y="48"/>
                  </a:moveTo>
                  <a:lnTo>
                    <a:pt x="576" y="48"/>
                  </a:lnTo>
                  <a:lnTo>
                    <a:pt x="432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5029200"/>
              <a:ext cx="915840" cy="77760"/>
            </a:xfrm>
            <a:custGeom>
              <a:avLst/>
              <a:gdLst/>
              <a:ahLst/>
              <a:rect l="l" t="t" r="r" b="b"/>
              <a:pathLst>
                <a:path w="577" h="49">
                  <a:moveTo>
                    <a:pt x="576" y="0"/>
                  </a:moveTo>
                  <a:lnTo>
                    <a:pt x="0" y="0"/>
                  </a:lnTo>
                  <a:lnTo>
                    <a:pt x="144" y="4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Basic Salt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f the anion of a salt is the conjugate base of a weak acid = basic solution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n an aqueous solution of NaF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 major species are N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, F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, and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12120" indent="-312120">
              <a:lnSpc>
                <a:spcPct val="90000"/>
              </a:lnSpc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+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  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F + O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312120" indent="-312120">
              <a:lnSpc>
                <a:spcPct val="110000"/>
              </a:lnSpc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K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b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=[HF][O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[F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312120" indent="-312120">
              <a:lnSpc>
                <a:spcPct val="11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but Ka = [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[F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      [HF]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7" name=""/>
          <p:cNvSpPr/>
          <p:nvPr/>
        </p:nvSpPr>
        <p:spPr>
          <a:xfrm>
            <a:off x="1828800" y="4495680"/>
            <a:ext cx="2209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666880" y="5715000"/>
            <a:ext cx="21337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2971800" y="3429000"/>
            <a:ext cx="1144440" cy="230040"/>
            <a:chOff x="2971800" y="3429000"/>
            <a:chExt cx="1144440" cy="230040"/>
          </a:xfrm>
        </p:grpSpPr>
        <p:sp>
          <p:nvSpPr>
            <p:cNvPr id="230" name=""/>
            <p:cNvSpPr/>
            <p:nvPr/>
          </p:nvSpPr>
          <p:spPr>
            <a:xfrm>
              <a:off x="3048120" y="3429000"/>
              <a:ext cx="1068120" cy="77760"/>
            </a:xfrm>
            <a:custGeom>
              <a:avLst/>
              <a:gdLst/>
              <a:ahLst/>
              <a:rect l="l" t="t" r="r" b="b"/>
              <a:pathLst>
                <a:path w="673" h="49">
                  <a:moveTo>
                    <a:pt x="0" y="48"/>
                  </a:moveTo>
                  <a:lnTo>
                    <a:pt x="672" y="48"/>
                  </a:lnTo>
                  <a:lnTo>
                    <a:pt x="528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971800" y="3581280"/>
              <a:ext cx="1068480" cy="77760"/>
            </a:xfrm>
            <a:custGeom>
              <a:avLst/>
              <a:gdLst/>
              <a:ahLst/>
              <a:rect l="l" t="t" r="r" b="b"/>
              <a:pathLst>
                <a:path w="673" h="49">
                  <a:moveTo>
                    <a:pt x="672" y="0"/>
                  </a:moveTo>
                  <a:lnTo>
                    <a:pt x="0" y="0"/>
                  </a:lnTo>
                  <a:lnTo>
                    <a:pt x="144" y="48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Basic Salt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K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Book Antiqua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x K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b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= [HF][O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x    [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[F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[F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[HF]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4" name=""/>
          <p:cNvSpPr/>
          <p:nvPr/>
        </p:nvSpPr>
        <p:spPr>
          <a:xfrm>
            <a:off x="2819520" y="1828800"/>
            <a:ext cx="20574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867280" y="1828800"/>
            <a:ext cx="1905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Basic Salt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K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Book Antiqua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x K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b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= [HF][O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x    [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[F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[F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[HF]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8" name=""/>
          <p:cNvSpPr/>
          <p:nvPr/>
        </p:nvSpPr>
        <p:spPr>
          <a:xfrm>
            <a:off x="3124080" y="1828800"/>
            <a:ext cx="20574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828800"/>
            <a:ext cx="1905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666880" y="1219320"/>
            <a:ext cx="1143000" cy="60948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72200" y="1752480"/>
            <a:ext cx="1143000" cy="60984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Basic Salt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K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Book Antiqua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x K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b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= [HF][O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x    [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[F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[F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[HF]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4" name=""/>
          <p:cNvSpPr/>
          <p:nvPr/>
        </p:nvSpPr>
        <p:spPr>
          <a:xfrm>
            <a:off x="3124080" y="1828800"/>
            <a:ext cx="20574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867280" y="1828800"/>
            <a:ext cx="1905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172200" y="1752480"/>
            <a:ext cx="1143000" cy="60984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6629040" y="1219320"/>
            <a:ext cx="1143000" cy="60948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3352320" y="1676520"/>
            <a:ext cx="1143000" cy="60948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666880" y="1219320"/>
            <a:ext cx="1143000" cy="60948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Basic Salt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K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Book Antiqua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x K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b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= [HF][O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x    [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[F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[F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[HF]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K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Book Antiqua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x K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b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=[O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 [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2" name=""/>
          <p:cNvSpPr/>
          <p:nvPr/>
        </p:nvSpPr>
        <p:spPr>
          <a:xfrm>
            <a:off x="3124080" y="1828800"/>
            <a:ext cx="20574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1828800"/>
            <a:ext cx="1905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72200" y="1752480"/>
            <a:ext cx="1143000" cy="60984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6629040" y="1219320"/>
            <a:ext cx="1143000" cy="60948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3352320" y="1676520"/>
            <a:ext cx="1143000" cy="60948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666880" y="1219320"/>
            <a:ext cx="1143000" cy="60948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Basic Salt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K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Book Antiqua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x K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b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= [HF][O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x    [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[F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[F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[HF]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K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Book Antiqua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x K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b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=[O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 [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K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Book Antiqua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x K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b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= K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W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1828800"/>
            <a:ext cx="20574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867280" y="1828800"/>
            <a:ext cx="1905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172200" y="1752480"/>
            <a:ext cx="1143000" cy="60984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6629040" y="1219320"/>
            <a:ext cx="1143000" cy="60948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3352320" y="1676520"/>
            <a:ext cx="1143000" cy="60948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666880" y="1219320"/>
            <a:ext cx="1143000" cy="60948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85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K</a:t>
            </a:r>
            <a:r>
              <a:rPr b="0" lang="en-US" sz="4400" spc="-1" strike="noStrike" baseline="-25000">
                <a:solidFill>
                  <a:srgbClr val="fafd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tells us K</a:t>
            </a:r>
            <a:r>
              <a:rPr b="0" lang="en-US" sz="4400" spc="-1" strike="noStrike" baseline="-25000">
                <a:solidFill>
                  <a:srgbClr val="fafd00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anion of a weak acid is a semi-strong bas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alculate the pH of a solution of 0.050M NaCN. Ka of HCN is 6.2 x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Book Antiqua"/>
              </a:rPr>
              <a:t>-10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CN</a:t>
            </a:r>
            <a:r>
              <a:rPr b="0" lang="en-US" sz="2800" spc="-1" strike="noStrike" baseline="30000">
                <a:solidFill>
                  <a:srgbClr val="ffffff"/>
                </a:solidFill>
                <a:latin typeface="Book Antiqu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ion competes with O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Book Antiqu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for the 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Book Antiqua"/>
              </a:rPr>
              <a:t>+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8" name=""/>
          <p:cNvSpPr/>
          <p:nvPr/>
        </p:nvSpPr>
        <p:spPr>
          <a:xfrm>
            <a:off x="7315200" y="5867280"/>
            <a:ext cx="121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Book Antiqua"/>
              </a:rPr>
              <a:t>P707#105b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cidic salt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 salt with the cation of a weak base and the anion of a strong acid will be basic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18960" indent="-3189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 same development as bases leads to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18960" indent="-31896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K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Book Antiqua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x K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b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= K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W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318960" indent="-3189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alculate the pH of a solution of 0.40 M 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 (the K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Book Antiqua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of 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1.8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5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18960" indent="-3189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ther acidic salts are those of highly charged metal ion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alculate the pH of a solution of 0.10 M 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 (the K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Book Antiqua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of 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1.8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5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3" name=""/>
          <p:cNvSpPr/>
          <p:nvPr/>
        </p:nvSpPr>
        <p:spPr>
          <a:xfrm>
            <a:off x="7238880" y="61722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Book Antiqua"/>
              </a:rPr>
              <a:t>p691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nion of weak acid, cation of weak bas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K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Book Antiqua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&gt; K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b 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cidic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K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Book Antiqua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&lt; K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b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basic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K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Book Antiqua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= K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b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Neutra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air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General equation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-3290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A(aq) +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(l) 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    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(aq) + 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(aq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-3290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cid + Base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onjugate acid +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 Conjugate bas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-3290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is is an equilibrium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-32904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ook Antiqua"/>
              </a:rPr>
              <a:t>Competition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3100" spc="-1" strike="noStrike">
                <a:solidFill>
                  <a:srgbClr val="ffffff"/>
                </a:solidFill>
                <a:latin typeface="Book Antiqua"/>
              </a:rPr>
              <a:t>for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+</a:t>
            </a:r>
            <a:r>
              <a:rPr b="0" lang="en-US" sz="3200" spc="-1" strike="noStrike" baseline="30000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3100" spc="-1" strike="noStrike">
                <a:solidFill>
                  <a:srgbClr val="ffffff"/>
                </a:solidFill>
                <a:latin typeface="Book Antiqua"/>
              </a:rPr>
              <a:t>between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 and 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-3290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f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 is a stronger base it takes the 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-3290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quilibrium moves to right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191120" y="1981080"/>
            <a:ext cx="763560" cy="230400"/>
            <a:chOff x="4191120" y="1981080"/>
            <a:chExt cx="763560" cy="230400"/>
          </a:xfrm>
        </p:grpSpPr>
        <p:sp>
          <p:nvSpPr>
            <p:cNvPr id="60" name=""/>
            <p:cNvSpPr/>
            <p:nvPr/>
          </p:nvSpPr>
          <p:spPr>
            <a:xfrm>
              <a:off x="4191120" y="1981080"/>
              <a:ext cx="763560" cy="77760"/>
            </a:xfrm>
            <a:custGeom>
              <a:avLst/>
              <a:gdLst/>
              <a:ahLst/>
              <a:rect l="l" t="t" r="r" b="b"/>
              <a:pathLst>
                <a:path w="481" h="49">
                  <a:moveTo>
                    <a:pt x="0" y="48"/>
                  </a:moveTo>
                  <a:lnTo>
                    <a:pt x="480" y="48"/>
                  </a:lnTo>
                  <a:lnTo>
                    <a:pt x="36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91120" y="2133720"/>
              <a:ext cx="763560" cy="77760"/>
            </a:xfrm>
            <a:custGeom>
              <a:avLst/>
              <a:gdLst/>
              <a:ahLst/>
              <a:rect l="l" t="t" r="r" b="b"/>
              <a:pathLst>
                <a:path w="481" h="49">
                  <a:moveTo>
                    <a:pt x="480" y="0"/>
                  </a:moveTo>
                  <a:lnTo>
                    <a:pt x="0" y="0"/>
                  </a:lnTo>
                  <a:lnTo>
                    <a:pt x="120" y="4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3352680" y="2666880"/>
            <a:ext cx="916200" cy="230400"/>
            <a:chOff x="3352680" y="2666880"/>
            <a:chExt cx="916200" cy="230400"/>
          </a:xfrm>
        </p:grpSpPr>
        <p:sp>
          <p:nvSpPr>
            <p:cNvPr id="63" name=""/>
            <p:cNvSpPr/>
            <p:nvPr/>
          </p:nvSpPr>
          <p:spPr>
            <a:xfrm>
              <a:off x="3352680" y="2666880"/>
              <a:ext cx="916200" cy="77760"/>
            </a:xfrm>
            <a:custGeom>
              <a:avLst/>
              <a:gdLst/>
              <a:ahLst/>
              <a:rect l="l" t="t" r="r" b="b"/>
              <a:pathLst>
                <a:path w="577" h="49">
                  <a:moveTo>
                    <a:pt x="0" y="48"/>
                  </a:moveTo>
                  <a:lnTo>
                    <a:pt x="576" y="48"/>
                  </a:lnTo>
                  <a:lnTo>
                    <a:pt x="432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352680" y="2819520"/>
              <a:ext cx="916200" cy="77760"/>
            </a:xfrm>
            <a:custGeom>
              <a:avLst/>
              <a:gdLst/>
              <a:ahLst/>
              <a:rect l="l" t="t" r="r" b="b"/>
              <a:pathLst>
                <a:path w="577" h="49">
                  <a:moveTo>
                    <a:pt x="576" y="0"/>
                  </a:moveTo>
                  <a:lnTo>
                    <a:pt x="0" y="0"/>
                  </a:lnTo>
                  <a:lnTo>
                    <a:pt x="144" y="4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tructure and Acid base Properti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71680" y="1804680"/>
            <a:ext cx="80532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ny molecule with an H in it is a potential acid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12120" indent="-31212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 stronger the X-H bond the less acidic (compare bond dissociation energies)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12120" indent="-31212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 more polar the X-H bond the stronger the acid (use electronegativities)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12120" indent="-31212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 more polar H-O-X bond -stronger acid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trength of oxyacid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 more oxygen hooked to the central atom, the more acidic the hydrogen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Cl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&gt; HCl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&gt; HCl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&gt; HClO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Remember that the H is attached to an oxygen atom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 oxygens are electronegativ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Pull electrons away from hydrogen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09480" y="49536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trength of oxyaci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209680" y="1595520"/>
            <a:ext cx="4421160" cy="2154240"/>
          </a:xfrm>
          <a:custGeom>
            <a:avLst/>
            <a:gdLst/>
            <a:ahLst/>
            <a:rect l="l" t="t" r="r" b="b"/>
            <a:pathLst>
              <a:path w="2785" h="1357">
                <a:moveTo>
                  <a:pt x="0" y="695"/>
                </a:moveTo>
                <a:lnTo>
                  <a:pt x="924" y="0"/>
                </a:lnTo>
                <a:lnTo>
                  <a:pt x="924" y="495"/>
                </a:lnTo>
                <a:lnTo>
                  <a:pt x="2784" y="492"/>
                </a:lnTo>
                <a:lnTo>
                  <a:pt x="2784" y="899"/>
                </a:lnTo>
                <a:lnTo>
                  <a:pt x="927" y="894"/>
                </a:lnTo>
                <a:lnTo>
                  <a:pt x="927" y="1356"/>
                </a:lnTo>
                <a:lnTo>
                  <a:pt x="0" y="695"/>
                </a:lnTo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004e4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895480" y="2438280"/>
            <a:ext cx="3276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1d58"/>
                </a:solidFill>
                <a:latin typeface="Book Antiqua"/>
              </a:rPr>
              <a:t>Electron Dens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3886200" y="4286160"/>
            <a:ext cx="2362320" cy="579960"/>
            <a:chOff x="3886200" y="4286160"/>
            <a:chExt cx="2362320" cy="579960"/>
          </a:xfrm>
        </p:grpSpPr>
        <p:sp>
          <p:nvSpPr>
            <p:cNvPr id="284" name=""/>
            <p:cNvSpPr/>
            <p:nvPr/>
          </p:nvSpPr>
          <p:spPr>
            <a:xfrm>
              <a:off x="3886200" y="4286160"/>
              <a:ext cx="6094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Book Antiqua"/>
                </a:rPr>
                <a:t>Cl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00600" y="4286160"/>
              <a:ext cx="6094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Book Antiqua"/>
                </a:rPr>
                <a:t>O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638680" y="4286160"/>
              <a:ext cx="609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Book Antiqua"/>
                </a:rPr>
                <a:t>H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257800" y="4575240"/>
              <a:ext cx="3808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419720" y="4575240"/>
              <a:ext cx="3808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609480" y="49536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trength of oxyaci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209680" y="1595520"/>
            <a:ext cx="4421160" cy="2154240"/>
          </a:xfrm>
          <a:custGeom>
            <a:avLst/>
            <a:gdLst/>
            <a:ahLst/>
            <a:rect l="l" t="t" r="r" b="b"/>
            <a:pathLst>
              <a:path w="2785" h="1357">
                <a:moveTo>
                  <a:pt x="0" y="695"/>
                </a:moveTo>
                <a:lnTo>
                  <a:pt x="924" y="0"/>
                </a:lnTo>
                <a:lnTo>
                  <a:pt x="924" y="378"/>
                </a:lnTo>
                <a:lnTo>
                  <a:pt x="2784" y="492"/>
                </a:lnTo>
                <a:lnTo>
                  <a:pt x="2784" y="899"/>
                </a:lnTo>
                <a:lnTo>
                  <a:pt x="924" y="1089"/>
                </a:lnTo>
                <a:lnTo>
                  <a:pt x="927" y="1356"/>
                </a:lnTo>
                <a:lnTo>
                  <a:pt x="0" y="695"/>
                </a:lnTo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004e4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2438280"/>
            <a:ext cx="3276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1d58"/>
                </a:solidFill>
                <a:latin typeface="Book Antiqua"/>
              </a:rPr>
              <a:t>Electron Dens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3886200" y="4286160"/>
            <a:ext cx="2362320" cy="579960"/>
            <a:chOff x="3886200" y="4286160"/>
            <a:chExt cx="2362320" cy="579960"/>
          </a:xfrm>
        </p:grpSpPr>
        <p:sp>
          <p:nvSpPr>
            <p:cNvPr id="293" name=""/>
            <p:cNvSpPr/>
            <p:nvPr/>
          </p:nvSpPr>
          <p:spPr>
            <a:xfrm>
              <a:off x="3886200" y="4286160"/>
              <a:ext cx="6094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Book Antiqua"/>
                </a:rPr>
                <a:t>Cl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800600" y="4286160"/>
              <a:ext cx="6094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Book Antiqua"/>
                </a:rPr>
                <a:t>O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638680" y="4286160"/>
              <a:ext cx="609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Book Antiqua"/>
                </a:rPr>
                <a:t>H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257800" y="4575240"/>
              <a:ext cx="3808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419720" y="4575240"/>
              <a:ext cx="3808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2743200" y="4286160"/>
            <a:ext cx="533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00400" y="4575240"/>
            <a:ext cx="6094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609480" y="49536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trength of oxyaci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3886200" y="4286160"/>
            <a:ext cx="2362320" cy="579960"/>
            <a:chOff x="3886200" y="4286160"/>
            <a:chExt cx="2362320" cy="579960"/>
          </a:xfrm>
        </p:grpSpPr>
        <p:sp>
          <p:nvSpPr>
            <p:cNvPr id="302" name=""/>
            <p:cNvSpPr/>
            <p:nvPr/>
          </p:nvSpPr>
          <p:spPr>
            <a:xfrm>
              <a:off x="3886200" y="4286160"/>
              <a:ext cx="6094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Book Antiqua"/>
                </a:rPr>
                <a:t>Cl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800600" y="4286160"/>
              <a:ext cx="6094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Book Antiqua"/>
                </a:rPr>
                <a:t>O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638680" y="4286160"/>
              <a:ext cx="609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Book Antiqua"/>
                </a:rPr>
                <a:t>H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257800" y="4575240"/>
              <a:ext cx="3808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419720" y="4575240"/>
              <a:ext cx="3808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048120" y="3505320"/>
            <a:ext cx="533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505320" y="3962520"/>
            <a:ext cx="457200" cy="4572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048120" y="5029200"/>
            <a:ext cx="533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3505320" y="4724280"/>
            <a:ext cx="457200" cy="4572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209680" y="1595520"/>
            <a:ext cx="4421160" cy="2154240"/>
          </a:xfrm>
          <a:custGeom>
            <a:avLst/>
            <a:gdLst/>
            <a:ahLst/>
            <a:rect l="l" t="t" r="r" b="b"/>
            <a:pathLst>
              <a:path w="2785" h="1357">
                <a:moveTo>
                  <a:pt x="0" y="695"/>
                </a:moveTo>
                <a:lnTo>
                  <a:pt x="924" y="0"/>
                </a:lnTo>
                <a:lnTo>
                  <a:pt x="924" y="225"/>
                </a:lnTo>
                <a:lnTo>
                  <a:pt x="2784" y="492"/>
                </a:lnTo>
                <a:lnTo>
                  <a:pt x="2784" y="899"/>
                </a:lnTo>
                <a:lnTo>
                  <a:pt x="924" y="1116"/>
                </a:lnTo>
                <a:lnTo>
                  <a:pt x="927" y="1356"/>
                </a:lnTo>
                <a:lnTo>
                  <a:pt x="0" y="695"/>
                </a:lnTo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004e4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895480" y="2438280"/>
            <a:ext cx="3276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1d58"/>
                </a:solidFill>
                <a:latin typeface="Book Antiqua"/>
              </a:rPr>
              <a:t>Electron Dens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trength of oxyacid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3886200" y="4286160"/>
            <a:ext cx="2362320" cy="579960"/>
            <a:chOff x="3886200" y="4286160"/>
            <a:chExt cx="2362320" cy="579960"/>
          </a:xfrm>
        </p:grpSpPr>
        <p:sp>
          <p:nvSpPr>
            <p:cNvPr id="315" name=""/>
            <p:cNvSpPr/>
            <p:nvPr/>
          </p:nvSpPr>
          <p:spPr>
            <a:xfrm>
              <a:off x="3886200" y="4286160"/>
              <a:ext cx="6094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Book Antiqua"/>
                </a:rPr>
                <a:t>Cl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800600" y="4286160"/>
              <a:ext cx="6094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Book Antiqua"/>
                </a:rPr>
                <a:t>O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638680" y="4286160"/>
              <a:ext cx="609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Book Antiqua"/>
                </a:rPr>
                <a:t>H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257800" y="4575240"/>
              <a:ext cx="3808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19720" y="4575240"/>
              <a:ext cx="3808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3048120" y="3505320"/>
            <a:ext cx="533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505320" y="3962520"/>
            <a:ext cx="457200" cy="4572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743200" y="4286160"/>
            <a:ext cx="533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048120" y="5029200"/>
            <a:ext cx="533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00400" y="4575240"/>
            <a:ext cx="6094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3505320" y="4724280"/>
            <a:ext cx="457200" cy="4572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209680" y="1600200"/>
            <a:ext cx="4421160" cy="2135160"/>
          </a:xfrm>
          <a:custGeom>
            <a:avLst/>
            <a:gdLst/>
            <a:ahLst/>
            <a:rect l="l" t="t" r="r" b="b"/>
            <a:pathLst>
              <a:path w="2785" h="1345">
                <a:moveTo>
                  <a:pt x="0" y="692"/>
                </a:moveTo>
                <a:lnTo>
                  <a:pt x="928" y="0"/>
                </a:lnTo>
                <a:lnTo>
                  <a:pt x="924" y="141"/>
                </a:lnTo>
                <a:lnTo>
                  <a:pt x="2784" y="489"/>
                </a:lnTo>
                <a:lnTo>
                  <a:pt x="2784" y="896"/>
                </a:lnTo>
                <a:lnTo>
                  <a:pt x="924" y="1206"/>
                </a:lnTo>
                <a:lnTo>
                  <a:pt x="928" y="1344"/>
                </a:lnTo>
                <a:lnTo>
                  <a:pt x="0" y="692"/>
                </a:lnTo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004e4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2438280"/>
            <a:ext cx="3276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1d58"/>
                </a:solidFill>
                <a:latin typeface="Book Antiqua"/>
              </a:rPr>
              <a:t>Electron Dens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Hydrated metal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ighly charged metal ions pull the electrons of surrounding water molecules toward them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Make it easier for 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to come off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0" name=""/>
          <p:cNvSpPr/>
          <p:nvPr/>
        </p:nvSpPr>
        <p:spPr>
          <a:xfrm>
            <a:off x="5372280" y="3243240"/>
            <a:ext cx="12427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l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+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524640" y="3238560"/>
            <a:ext cx="657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188120" y="2676600"/>
            <a:ext cx="657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188120" y="3772080"/>
            <a:ext cx="657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86440" y="3543480"/>
            <a:ext cx="485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858000" y="3686040"/>
            <a:ext cx="343080" cy="300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858000" y="3022560"/>
            <a:ext cx="343080" cy="300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381920" y="3759120"/>
            <a:ext cx="2713680" cy="148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50760">
            <a:solidFill>
              <a:srgbClr val="fafd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cid-Base Properties of Oxid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Non-metal oxides dissolved in water can make acid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(g) +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(l)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     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(aq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onic oxides dissolve in water to produce base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aO(s) +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(l)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       Ca(OH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(aq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0" name=""/>
          <p:cNvSpPr/>
          <p:nvPr/>
        </p:nvSpPr>
        <p:spPr>
          <a:xfrm>
            <a:off x="4343400" y="2500200"/>
            <a:ext cx="611280" cy="268560"/>
          </a:xfrm>
          <a:custGeom>
            <a:avLst/>
            <a:gdLst/>
            <a:ahLst/>
            <a:rect l="l" t="t" r="r" b="b"/>
            <a:pathLst>
              <a:path w="385" h="169">
                <a:moveTo>
                  <a:pt x="0" y="81"/>
                </a:moveTo>
                <a:lnTo>
                  <a:pt x="378" y="81"/>
                </a:lnTo>
                <a:lnTo>
                  <a:pt x="300" y="0"/>
                </a:lnTo>
                <a:lnTo>
                  <a:pt x="384" y="84"/>
                </a:lnTo>
                <a:lnTo>
                  <a:pt x="300" y="168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295880" y="4167360"/>
            <a:ext cx="610920" cy="268200"/>
          </a:xfrm>
          <a:custGeom>
            <a:avLst/>
            <a:gdLst/>
            <a:ahLst/>
            <a:rect l="l" t="t" r="r" b="b"/>
            <a:pathLst>
              <a:path w="385" h="169">
                <a:moveTo>
                  <a:pt x="0" y="81"/>
                </a:moveTo>
                <a:lnTo>
                  <a:pt x="378" y="81"/>
                </a:lnTo>
                <a:lnTo>
                  <a:pt x="300" y="0"/>
                </a:lnTo>
                <a:lnTo>
                  <a:pt x="384" y="84"/>
                </a:lnTo>
                <a:lnTo>
                  <a:pt x="300" y="168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Lewis Acids and Bas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186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Most general definition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cids are electron pair acceptor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Bases are electron pair donor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4" name=""/>
          <p:cNvSpPr/>
          <p:nvPr/>
        </p:nvSpPr>
        <p:spPr>
          <a:xfrm>
            <a:off x="2228760" y="4005360"/>
            <a:ext cx="528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038400" y="4005360"/>
            <a:ext cx="528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438200" y="4591080"/>
            <a:ext cx="528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438200" y="3186000"/>
            <a:ext cx="528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643120" y="4325760"/>
            <a:ext cx="48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90640" y="3649680"/>
            <a:ext cx="490680" cy="436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1790640" y="4385880"/>
            <a:ext cx="490680" cy="436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514760" y="4024440"/>
            <a:ext cx="8049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: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495760" y="4757760"/>
            <a:ext cx="528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95760" y="3238560"/>
            <a:ext cx="528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681520" y="4038480"/>
            <a:ext cx="528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181480" y="4359240"/>
            <a:ext cx="48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153040" y="3772080"/>
            <a:ext cx="476280" cy="3492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91120" y="4581360"/>
            <a:ext cx="476280" cy="3495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Lewis Acids and Bas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Boron triflouride wants more electron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0" name=""/>
          <p:cNvSpPr/>
          <p:nvPr/>
        </p:nvSpPr>
        <p:spPr>
          <a:xfrm>
            <a:off x="2228760" y="4005360"/>
            <a:ext cx="528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038400" y="4005360"/>
            <a:ext cx="528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438200" y="4591080"/>
            <a:ext cx="528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438200" y="3186000"/>
            <a:ext cx="528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643120" y="4325760"/>
            <a:ext cx="48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790640" y="3649680"/>
            <a:ext cx="490680" cy="436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790640" y="4385880"/>
            <a:ext cx="490680" cy="436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514760" y="4024440"/>
            <a:ext cx="8049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: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95760" y="4757760"/>
            <a:ext cx="528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495760" y="3238560"/>
            <a:ext cx="528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681520" y="4038480"/>
            <a:ext cx="528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181480" y="4359240"/>
            <a:ext cx="48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153040" y="3772080"/>
            <a:ext cx="476280" cy="3492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091120" y="4581360"/>
            <a:ext cx="476280" cy="3495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90920" y="3408480"/>
            <a:ext cx="2101320" cy="1313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11699383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11699383"/>
              </a:path>
            </a:pathLst>
          </a:custGeom>
          <a:noFill/>
          <a:ln cap="rnd" w="2556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113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cid dissociation constant K</a:t>
            </a:r>
            <a:r>
              <a:rPr b="0" lang="en-US" sz="6000" spc="-1" strike="noStrike" baseline="-25000">
                <a:solidFill>
                  <a:srgbClr val="fafd00"/>
                </a:solidFill>
                <a:latin typeface="Times New Roman"/>
              </a:rPr>
              <a:t>a</a:t>
            </a:r>
            <a:endParaRPr b="0" lang="en-US" sz="6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 equilibrium constant for the general equation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A(aq) +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(l) 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    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(aq) + 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(aq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K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= [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[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[HA]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is often written 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ignoring the water in equation (it is implied)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267080" y="2514600"/>
            <a:ext cx="763560" cy="230040"/>
            <a:chOff x="4267080" y="2514600"/>
            <a:chExt cx="763560" cy="230040"/>
          </a:xfrm>
        </p:grpSpPr>
        <p:sp>
          <p:nvSpPr>
            <p:cNvPr id="68" name=""/>
            <p:cNvSpPr/>
            <p:nvPr/>
          </p:nvSpPr>
          <p:spPr>
            <a:xfrm>
              <a:off x="4267080" y="2514600"/>
              <a:ext cx="763560" cy="77760"/>
            </a:xfrm>
            <a:custGeom>
              <a:avLst/>
              <a:gdLst/>
              <a:ahLst/>
              <a:rect l="l" t="t" r="r" b="b"/>
              <a:pathLst>
                <a:path w="481" h="49">
                  <a:moveTo>
                    <a:pt x="0" y="48"/>
                  </a:moveTo>
                  <a:lnTo>
                    <a:pt x="480" y="48"/>
                  </a:lnTo>
                  <a:lnTo>
                    <a:pt x="36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267080" y="2666880"/>
              <a:ext cx="763560" cy="77760"/>
            </a:xfrm>
            <a:custGeom>
              <a:avLst/>
              <a:gdLst/>
              <a:ahLst/>
              <a:rect l="l" t="t" r="r" b="b"/>
              <a:pathLst>
                <a:path w="481" h="49">
                  <a:moveTo>
                    <a:pt x="480" y="0"/>
                  </a:moveTo>
                  <a:lnTo>
                    <a:pt x="0" y="0"/>
                  </a:lnTo>
                  <a:lnTo>
                    <a:pt x="120" y="4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1828800" y="3581280"/>
            <a:ext cx="23623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Lewis Acids and Bas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Boron triflouride wants more electron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BF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is Lewis acid 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is a Lewis Base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7" name=""/>
          <p:cNvSpPr/>
          <p:nvPr/>
        </p:nvSpPr>
        <p:spPr>
          <a:xfrm>
            <a:off x="3600360" y="4062240"/>
            <a:ext cx="528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581200" y="3948120"/>
            <a:ext cx="528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809800" y="4648320"/>
            <a:ext cx="528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809800" y="3243240"/>
            <a:ext cx="528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2971800" y="4311360"/>
            <a:ext cx="600120" cy="3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162240" y="3706920"/>
            <a:ext cx="490680" cy="4363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3162240" y="4443480"/>
            <a:ext cx="490680" cy="4363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614840" y="4067280"/>
            <a:ext cx="804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495760" y="4757760"/>
            <a:ext cx="528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495760" y="3238560"/>
            <a:ext cx="528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681520" y="4038480"/>
            <a:ext cx="528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181480" y="4359240"/>
            <a:ext cx="48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5153040" y="3772080"/>
            <a:ext cx="476280" cy="3492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091120" y="4581360"/>
            <a:ext cx="476280" cy="3495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105440" y="4368960"/>
            <a:ext cx="485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Lewis Acids and Bas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157480" y="2171880"/>
            <a:ext cx="11858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Al</a:t>
            </a:r>
            <a:r>
              <a:rPr b="0" lang="en-US" sz="4800" spc="-1" strike="noStrike" baseline="30000">
                <a:solidFill>
                  <a:srgbClr val="ffffff"/>
                </a:solidFill>
                <a:latin typeface="Book Antiqua"/>
              </a:rPr>
              <a:t>+3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806280" y="1550880"/>
            <a:ext cx="67716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ffffff"/>
                </a:solidFill>
                <a:latin typeface="Book Antiqua"/>
              </a:rPr>
              <a:t>(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5400720" y="1542960"/>
            <a:ext cx="1071360" cy="2222640"/>
            <a:chOff x="5400720" y="1542960"/>
            <a:chExt cx="1071360" cy="2222640"/>
          </a:xfrm>
        </p:grpSpPr>
        <p:sp>
          <p:nvSpPr>
            <p:cNvPr id="396" name=""/>
            <p:cNvSpPr/>
            <p:nvPr/>
          </p:nvSpPr>
          <p:spPr>
            <a:xfrm>
              <a:off x="5400720" y="1542960"/>
              <a:ext cx="600120" cy="20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0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900" spc="-1" strike="noStrike">
                  <a:solidFill>
                    <a:srgbClr val="ffffff"/>
                  </a:solidFill>
                  <a:latin typeface="Book Antiqua"/>
                </a:rPr>
                <a:t>)</a:t>
              </a:r>
              <a:endParaRPr b="0" lang="en-US" sz="12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800680" y="3186000"/>
              <a:ext cx="671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4952880" y="1881360"/>
            <a:ext cx="542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933800" y="2890800"/>
            <a:ext cx="543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362480" y="2405160"/>
            <a:ext cx="542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4738680" y="2224080"/>
            <a:ext cx="271440" cy="27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34000" y="2846520"/>
            <a:ext cx="271440" cy="27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363920" y="2482920"/>
            <a:ext cx="73080" cy="68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478400" y="2397240"/>
            <a:ext cx="73080" cy="68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344840" y="2797200"/>
            <a:ext cx="73080" cy="68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487760" y="2901960"/>
            <a:ext cx="73080" cy="68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819520" y="4748040"/>
            <a:ext cx="1185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791880" y="3965400"/>
            <a:ext cx="67716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ffffff"/>
                </a:solidFill>
                <a:latin typeface="Book Antiqua"/>
              </a:rPr>
              <a:t>(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5386320" y="3957480"/>
            <a:ext cx="1071720" cy="2223360"/>
            <a:chOff x="5386320" y="3957480"/>
            <a:chExt cx="1071720" cy="2223360"/>
          </a:xfrm>
        </p:grpSpPr>
        <p:sp>
          <p:nvSpPr>
            <p:cNvPr id="410" name=""/>
            <p:cNvSpPr/>
            <p:nvPr/>
          </p:nvSpPr>
          <p:spPr>
            <a:xfrm>
              <a:off x="5386320" y="3957480"/>
              <a:ext cx="600120" cy="20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0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900" spc="-1" strike="noStrike">
                  <a:solidFill>
                    <a:srgbClr val="ffffff"/>
                  </a:solidFill>
                  <a:latin typeface="Book Antiqua"/>
                </a:rPr>
                <a:t>)</a:t>
              </a:r>
              <a:endParaRPr b="0" lang="en-US" sz="12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786280" y="5600880"/>
              <a:ext cx="671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Book Antiqua"/>
                </a:rPr>
                <a:t>6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4938840" y="4295880"/>
            <a:ext cx="542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919760" y="5305320"/>
            <a:ext cx="542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348080" y="4819680"/>
            <a:ext cx="542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4724280" y="4638600"/>
            <a:ext cx="271440" cy="27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719600" y="5261040"/>
            <a:ext cx="271440" cy="27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425840" y="4802040"/>
            <a:ext cx="73080" cy="68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578480" y="4792680"/>
            <a:ext cx="72720" cy="68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086280" y="2228760"/>
            <a:ext cx="1000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+ 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524400" y="5114880"/>
            <a:ext cx="904680" cy="97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847960" y="3976560"/>
            <a:ext cx="306360" cy="2192400"/>
          </a:xfrm>
          <a:custGeom>
            <a:avLst/>
            <a:gdLst/>
            <a:ahLst/>
            <a:rect l="l" t="t" r="r" b="b"/>
            <a:pathLst>
              <a:path w="193" h="1381">
                <a:moveTo>
                  <a:pt x="192" y="0"/>
                </a:moveTo>
                <a:lnTo>
                  <a:pt x="0" y="0"/>
                </a:lnTo>
                <a:lnTo>
                  <a:pt x="0" y="1380"/>
                </a:lnTo>
                <a:lnTo>
                  <a:pt x="174" y="138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972040" y="3986280"/>
            <a:ext cx="306360" cy="2192400"/>
          </a:xfrm>
          <a:custGeom>
            <a:avLst/>
            <a:gdLst/>
            <a:ahLst/>
            <a:rect l="l" t="t" r="r" b="b"/>
            <a:pathLst>
              <a:path w="193" h="1381">
                <a:moveTo>
                  <a:pt x="0" y="0"/>
                </a:moveTo>
                <a:lnTo>
                  <a:pt x="192" y="0"/>
                </a:lnTo>
                <a:lnTo>
                  <a:pt x="192" y="1380"/>
                </a:lnTo>
                <a:lnTo>
                  <a:pt x="18" y="138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238800" y="3676680"/>
            <a:ext cx="657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+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113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cid dissociation constant K</a:t>
            </a:r>
            <a:r>
              <a:rPr b="0" lang="en-US" sz="6000" spc="-1" strike="noStrike" baseline="-25000">
                <a:solidFill>
                  <a:srgbClr val="fafd00"/>
                </a:solidFill>
                <a:latin typeface="Times New Roman"/>
              </a:rPr>
              <a:t>a</a:t>
            </a:r>
            <a:endParaRPr b="0" lang="en-US" sz="6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A(aq)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(aq) + 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(aq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K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= [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[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     [HA]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We can write the expression for any acid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trong acids dissociate completely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quilibrium far to right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onjugate base must be weak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590920" y="1447920"/>
            <a:ext cx="763560" cy="230040"/>
            <a:chOff x="2590920" y="1447920"/>
            <a:chExt cx="763560" cy="230040"/>
          </a:xfrm>
        </p:grpSpPr>
        <p:sp>
          <p:nvSpPr>
            <p:cNvPr id="74" name=""/>
            <p:cNvSpPr/>
            <p:nvPr/>
          </p:nvSpPr>
          <p:spPr>
            <a:xfrm>
              <a:off x="2590920" y="1447920"/>
              <a:ext cx="763560" cy="77760"/>
            </a:xfrm>
            <a:custGeom>
              <a:avLst/>
              <a:gdLst/>
              <a:ahLst/>
              <a:rect l="l" t="t" r="r" b="b"/>
              <a:pathLst>
                <a:path w="481" h="49">
                  <a:moveTo>
                    <a:pt x="0" y="48"/>
                  </a:moveTo>
                  <a:lnTo>
                    <a:pt x="480" y="48"/>
                  </a:lnTo>
                  <a:lnTo>
                    <a:pt x="36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90920" y="1600200"/>
              <a:ext cx="763560" cy="77760"/>
            </a:xfrm>
            <a:custGeom>
              <a:avLst/>
              <a:gdLst/>
              <a:ahLst/>
              <a:rect l="l" t="t" r="r" b="b"/>
              <a:pathLst>
                <a:path w="481" h="49">
                  <a:moveTo>
                    <a:pt x="480" y="0"/>
                  </a:moveTo>
                  <a:lnTo>
                    <a:pt x="0" y="0"/>
                  </a:lnTo>
                  <a:lnTo>
                    <a:pt x="120" y="4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1905120" y="2514600"/>
            <a:ext cx="17524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7320" y="448920"/>
            <a:ext cx="7956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trong acid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294840" indent="-294840">
              <a:lnSpc>
                <a:spcPct val="115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K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a</a:t>
            </a:r>
            <a:r>
              <a:rPr b="0" lang="en-US" sz="3200" spc="-1" strike="noStrike" baseline="30000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s larg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294840" indent="-2948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[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 is equal to [HA]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294840" indent="-2948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is a weaker base than water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380988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Weak acid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18960" indent="-318960">
              <a:lnSpc>
                <a:spcPct val="115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K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a</a:t>
            </a:r>
            <a:r>
              <a:rPr b="0" lang="en-US" sz="3200" spc="-1" strike="noStrike" baseline="30000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s smal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18960" indent="-3189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[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 &lt;&lt;&lt; [HA]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18960" indent="-3189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is a stronger base than water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17320" y="448920"/>
            <a:ext cx="7956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ypes of Acid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Polyprotic Acids- more than 1 acidic hydrogen (diprotic, triprotic)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xyacids - Proton is attached to the oxygen of an ion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rganic acids contain the Carboxyl group -COOH with the H attached to O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Generally very weak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mphoteric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Behave as both an acid and a base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Water autoionize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2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(l) 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(aq) + O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(aq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K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W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= [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[O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=[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[O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t 25ºC K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W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= 1.0 x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14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n </a:t>
            </a:r>
            <a:r>
              <a:rPr b="0" lang="en-US" sz="3200" spc="-1" strike="noStrike">
                <a:solidFill>
                  <a:srgbClr val="fafd00"/>
                </a:solidFill>
                <a:latin typeface="Book Antiqua"/>
              </a:rPr>
              <a:t>EVERY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aqueous solution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Neutral solution [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 = [O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= 1.0 x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7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cidic solution [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 &gt; [O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Basic solution [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 &lt; [O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2590920" y="2362320"/>
            <a:ext cx="763560" cy="230040"/>
            <a:chOff x="2590920" y="2362320"/>
            <a:chExt cx="763560" cy="230040"/>
          </a:xfrm>
        </p:grpSpPr>
        <p:sp>
          <p:nvSpPr>
            <p:cNvPr id="85" name=""/>
            <p:cNvSpPr/>
            <p:nvPr/>
          </p:nvSpPr>
          <p:spPr>
            <a:xfrm>
              <a:off x="2590920" y="2362320"/>
              <a:ext cx="763560" cy="77760"/>
            </a:xfrm>
            <a:custGeom>
              <a:avLst/>
              <a:gdLst/>
              <a:ahLst/>
              <a:rect l="l" t="t" r="r" b="b"/>
              <a:pathLst>
                <a:path w="481" h="49">
                  <a:moveTo>
                    <a:pt x="0" y="48"/>
                  </a:moveTo>
                  <a:lnTo>
                    <a:pt x="480" y="48"/>
                  </a:lnTo>
                  <a:lnTo>
                    <a:pt x="36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90920" y="2514600"/>
              <a:ext cx="763560" cy="77760"/>
            </a:xfrm>
            <a:custGeom>
              <a:avLst/>
              <a:gdLst/>
              <a:ahLst/>
              <a:rect l="l" t="t" r="r" b="b"/>
              <a:pathLst>
                <a:path w="481" h="49">
                  <a:moveTo>
                    <a:pt x="480" y="0"/>
                  </a:moveTo>
                  <a:lnTo>
                    <a:pt x="0" y="0"/>
                  </a:lnTo>
                  <a:lnTo>
                    <a:pt x="120" y="4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3-26T09:44:46Z</dcterms:created>
  <dc:creator>Thomas V. Green Jr.</dc:creator>
  <dc:description/>
  <cp:keywords/>
  <dc:language>en-US</dc:language>
  <cp:lastModifiedBy>FPS</cp:lastModifiedBy>
  <dcterms:modified xsi:type="dcterms:W3CDTF">2008-12-05T18:33:10Z</dcterms:modified>
  <cp:revision>21</cp:revision>
  <dc:subject/>
  <dc:title>No Slide Title</dc:title>
</cp:coreProperties>
</file>